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D5F7-15D4-468F-9F0C-8B69F0886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BFFE-A684-44AA-BF7B-89EDBF2B4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112-9FCC-4AC2-88DC-CA56770E6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F01B-3ED2-4189-A323-AFE1B3C23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995D-C04B-43E9-A5FF-0207D7DB6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8933-3192-413D-8958-E5A8DFAC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DA44-2BF5-4DB8-A563-1099E3E27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3EBE-8885-433D-BE03-059503D9F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CC17-CD00-4600-AC40-C47B8D05C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8A0B-5741-4E41-95F3-57C61BD6D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0A97-ED6F-4CCF-AE52-9C16B386F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EEAB-BCEE-4B54-A962-B4567C8C9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8B4-C098-4E57-9CDC-4429589879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760-6EFC-491E-B3FA-321204276E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additive, multiplicative and generalization concepts in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B65-474A-49E8-A626-EBA25F5B7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446-59EC-4B76-8EAE-AF428407B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erimet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 x 3 grid of squares with only 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5 x 5 grid of squares where only the outside edge of squares i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17 x 17 grid of squares with only the outside edge of square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36232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60020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using the mathematical processes as your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ther tables to examine the type of feedback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athematical process was the l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similarities to the feedback you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CDSB</cp:lastModifiedBy>
  <dcterms:modified xsi:type="dcterms:W3CDTF">2011-08-05T00:42:57Z</dcterms:modified>
  <cp:revision>5</cp:revision>
  <dc:subject/>
  <dc:title>&lt;Title&gt;</dc:title>
</cp:coreProperties>
</file>